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896-DC38-4FCB-B389-0CA2011D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76172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702-1694-401D-A185-101F1848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5F9-FCDE-47E0-B133-68DBB28E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EE2-F33C-4703-BBBB-DABBCFF7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24B2-5A1E-45B1-89B3-67A42FB4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D72A-C251-4C0D-A3F6-F0B04F82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1C5F-C7F1-414B-8ACA-234ED9E5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BB65-418E-43B7-84A9-BD26DBC9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BBCC-92E9-4368-AB50-90D1DCC6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2872-DE02-4D33-9299-B7D36251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0FD8-0075-4B9C-BC33-E00475FA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BC4-562F-43E5-99A3-00F5B459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2DF-418B-41A5-8E38-267D1EE0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72BF-1C1B-4386-A8CA-EA2B5CF9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76172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EEE6-B30D-4A91-B26C-F053FA81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2BCE-A00C-4493-B0A4-4F6D5E98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D5B5-E590-457B-B22D-B135AC22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74A-6635-465A-9E96-A03E2485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E83-8653-49F4-B03A-C288A898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0A4-882F-4D9E-8E04-6F07812E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C82-8107-4788-8BD8-00E165AB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73B-C022-4969-8B31-A0A07AF1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0C8-83FC-4FC9-BC42-D25C7D1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BE3-A57E-4E92-B80F-DBA8CD54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13716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 Black"/>
              </a:rPr>
              <a:t>HOL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orld History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THE HUMAN JOURNE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OLT, RINEHART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WINST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504080" indent="-21456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4" marL="1933920" indent="-21456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5" marL="1933920" indent="-214560">
              <a:spcBef>
                <a:spcPts val="700"/>
              </a:spcBef>
              <a:buClr>
                <a:srgbClr val="f8f8f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6" marL="1933920" indent="-214560">
              <a:spcBef>
                <a:spcPts val="700"/>
              </a:spcBef>
              <a:buClr>
                <a:srgbClr val="f8f8f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cc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Black"/>
              </a:rPr>
              <a:t>&lt;foot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11B2-BE1A-47F9-B73B-957AE9BE241A}" type="slidenum">
              <a:rPr b="0" lang="en-US" sz="1800" spc="-1" strike="noStrike">
                <a:solidFill>
                  <a:srgbClr val="f8f8f8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0760" cy="13716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 Black"/>
              </a:rPr>
              <a:t>HOL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orld History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THE HUMAN JOURNE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c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OLT, RINEHART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WINST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7BE1-0A25-4CF9-95E3-B5327BEDD6B8}" type="slidenum">
              <a:rPr b="0" lang="en-US" sz="1800" spc="-1" strike="noStrike">
                <a:solidFill>
                  <a:srgbClr val="f8f8f8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2857680" indent="0" algn="ctr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2971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30862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lvl="4" marL="3200400" algn="ctr">
              <a:spcBef>
                <a:spcPts val="4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5" marL="3200400">
              <a:spcBef>
                <a:spcPts val="400"/>
              </a:spcBef>
              <a:buClr>
                <a:srgbClr val="f8f8f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6" marL="3200400">
              <a:spcBef>
                <a:spcPts val="400"/>
              </a:spcBef>
              <a:buClr>
                <a:srgbClr val="f8f8f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he French Revolution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nd Napoléon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ection 1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The Roots of Revolu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ection 2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The French Revolu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ection 3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The French Republi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ection 4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The Napoléonic Er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ection 5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A Return to Pea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09800"/>
            <a:ext cx="3656160" cy="6094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CHAPTER 21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Spread of the Revolution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830592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During the meeting of the Estates General, King Louis XVI moved troops into position to drive out the Assembl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Parisians took action against the Arm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Capture of Bastille prison, looted for weapons and destroyed the Bastill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eneral Lafayette formed the National Guar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lag of Red, White, Bl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easants developed “Great Fear”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ear that the Nobles would try to end the Revolution by crushing the peasant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Peasants attacked local manor houses, destroyed documents recording rents, dues, and obligation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E8B-ABAB-4CF3-8CB0-C28681A9CFBA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End of the Old Regim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838188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ried to end violence by ending feudalism, outlawing tithes, canceling dues and services of peasant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Declaration of the Rights of Man – basic human rights and political powers, applied to men onl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Men are born equal, freedom of speech, press, and relig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All men have right to public office, right of fair tria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Liberty, equality, fraternity”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Émigrés and royalists – forced Louis XVI and family to return to Paris, supported the Old Regim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730-CB87-4640-B60B-966B977DCC23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Constitution of 1791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imited powers of k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vided government into three branches: executive, legislative, and judici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974-1738-4AE1-BBB4-54D4378D92CD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Legislative Assembly and War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xecutive branch was wea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egislature was inexperienced; divided into conservatives, radicals, and moderat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egislative Assembly united to wage war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n Austri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F1E-9B8D-472C-BDEB-FA2475288126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End of the Monarchy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ouis XVI plotted with foreign powers to overthrow Constitution of 179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egislative Assembly ended the Monarch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National Convention drew up new constitu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292-A958-497A-AB68-8507F6E1167E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National Convention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Universal manhood suffrage – every adult male could vot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ree main group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irondins- Republicans that fear Paris would dominate Fra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Jacobins-supported the dominance of France by Par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nd delegates who had no definite view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BF0-B469-4277-BAC3-3FC102897918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Exporting the Revolution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rance was being invaded by an alliance of Great Britian, the Netherlands, Spain, Sardinia, Austria, and Pruss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ommittee of Public Safet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adopted “conscription” a draf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All unmarried, able-bodied men between 18-25 were subject to Military servic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pposition – European monarchs formed an alliance against Franc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Counterrevolutionary armies developed and fought the revolutionary arm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59A-D57D-455F-A320-25D4690B976E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Reign of Terror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ign of Terror- Sept 1793- July 179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ational Convention worked to suppress all opposition and revolts within Fra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volutionary Tribunal – tried to suppress all opposition and revolts within Fran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unished and executed those that were part of or believed to be part of the counterrevolu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815-FE42-4873-8908-8007EE60AC9F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Work of the National Convention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bolished slaver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lanned public educ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dopted metric syste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980-0190-4D4A-81AD-B5C1E62AB813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Directory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Governed by five individuals from the government’s executive branch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liminated universal manhood suffrag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eak, corrupt rul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89F-C5B5-44D3-8913-8584866F1967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Bellwork:                   Trivia: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380988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age 51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7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# 1-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80920" y="2971440"/>
            <a:ext cx="487692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January 7</a:t>
            </a:r>
            <a:r>
              <a:rPr b="0" lang="en-US" sz="2400" spc="-1" strike="noStrike" baseline="30000">
                <a:solidFill>
                  <a:srgbClr val="f8f8f8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, 1789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first U.S. Presidential election is held, only white men with property were allowed to vot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1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Roots of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D91-DD02-464A-83CA-069A982D1823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Assignment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Quiz 21.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ad sections 3 and 4 (517-528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orksheet 21.3 &amp; 21.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835-A04D-4E96-B072-17CE6C10226C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Bellwork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age 528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# 1 &amp; 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4EF-EC87-40D0-B6DA-486BEA6AC27E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1904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Napoléon Bonapart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876312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orn in 1769 on the French Island of Corsica, attended Military school in France, stood only 5’2”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By age 26 he was already a General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Married a leader of French society, Josephine de Beauharnai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ise of Napoléon – strong military leader, gained control of all northern Italy for Fra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apoléon takes power – coup d’état due to unstable governm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Used force to over take power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D72-6906-4AFD-89C7-BD60A0B7A4B9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Napoléon as Dictator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6868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Consulate – Napoléon gave himself unlimited power-Dictato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1799-1814 Napoleonic Era or Age of Napole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rst five years were called The Consulat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He wrote a new constitution and put it to the people to vote, which was approved by the peopl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ccomplishments in governm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Napoléonic Cod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Bank of Franc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public education-high schools, universities, technical school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Concordat-agreement with the Pope of Roman Catholic Church-acknowledged that most of France was catholic, but allowed religious freedom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4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D77-CD03-424F-82E9-0941EB7AB6AC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Napoléon as Emperor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French people voted to become an empi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Napoléon crowned himself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ower permanent and hereditar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efeated Austria and Russi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lockade of British Isl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4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C30-516B-4DDF-9789-2C9B0F92A617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Reorganization of Europ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creased nationalism – Napoléon placed members of his own family as monarchs of countries he conquered; loyalty and patriotis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Peninsular War – Spanish and Portuguese revolt against French ru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Drove Napoleon’s family out of rule in Spai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4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231-47B1-44F5-B4A8-90324FDB6A7F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atastrophe in Russia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876312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Upset that Russia was trading with Great Brittan, though they were allies with Fra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Grand Army of 600,000 – marched to Russia, but were defeated through lack of proper housing and supplies, scorched earth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Russian winter was coming so the retreate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nal defeat – Western European countries allied against France and Napole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Restored the Monarchy to Louis XVIII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4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E1F-9A0A-47A7-A879-C462DCE2E505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Hundred Day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86868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uring 1814 and early 1815 Napoleon escaped exile in Elba and returned to Fran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King sent army to capture Napole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apoleon convinced them to join him against k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Napoléon led this army into France drove out the King and ruled for one hundred days until Britain, Prussia, and Netherlands were victorious and forced him into exi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4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427-1398-4C8B-B7A5-CA31544B879E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Bellwork: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380988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age 53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# 1&amp; 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January 15, 199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im Berners-Lee (who invented the world wide web) released the first web browser softwar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5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 Return to Peac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FF3-9DC5-44F4-BF89-36A51079FBB8}" type="slidenum">
              <a:t>28</a:t>
            </a:fld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Congress of Vienna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principles of the Congress of Vienna, Austr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Restore order, avoid further rebellions against monarchy, keep peace, suppress possible revolutio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et to achieve stability in Europe and settle Territorial question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Compensation-the countries that had suffered the most at the hands of Napoleon had to be paid back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balance of power-had to be restored to Europe so that no country became to powerfu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Legitimacy-all former ruling families should be restored to their thron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5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 Return to Peac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4F4-C4FB-47B7-AFB0-A7498CC716EE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Old Regim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30592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privileged estates –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rst Estate was clergy of Roman Catholic Church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Less then 1% of French Populat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Owned 15% of French Lan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Collected Rent, taxes and fees from Land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cond Estate was nobilit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Less then 2% of French populat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Held highest positions in Government and Arm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Paid few if any taxes, collected dues from peasant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1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Roots of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3D2-C74D-4015-8BAD-1230167E11B4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Reactionary Alliance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ppose change and try to undo chang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stored balance of powe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mphasized conservative view to prevent revolu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5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 Return to Peac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01D-9476-4670-A221-9497B1E95B7D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Age of Metternich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rince Metternich-a reactionary who believed in absolute monarchy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Used Secret police and Military suppression to stop liberalis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Liberalism-Extended the ideas of the American and French Revolution.  Individual rights and rule of law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Metternich suppressed freedoms such as press and speech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5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 Return to Peac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441-C8CD-4C4E-99B5-A18F5F842F4B}" type="slidenum">
              <a:t>31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Third estate – The rest of French Population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97%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bourgeoisie (urban middle class)-merchants, manufacturers, professional people such as Doctors and Lawyer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city workers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Artisans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rural peasants-Largest group, poorest group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D7F-8668-4A4B-8B8F-A3B560BAAD86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Growing Disconten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creased population and cost of liv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amilies had more children, needed more money to liv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igher estates raised rents and fe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ourgeoisie wanted liberty and equalit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ad gained strength and prosperity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1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Roots of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246-F93A-4CD4-9B9E-B83F7D46D6AC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Financial Crisi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75438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ssistance to United States during American Revolution led to France’s increased deb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59 Year reign of Louis XV, he was faced with debts inherited from Louis the XIV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Louis XVI tried to raise taxes, hoped a meeting of all three estates would approve new tax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Married Marie-Antoinette, daughter of Austrian ruler, Maria Theres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anks refused to loan French government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ore mone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1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Roots of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0E2-B31E-4AD2-814E-F6CC226AC2DE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Meeting of the Estates General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three estates had previously met separatel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ird Estate wanted representatives to vote as individual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1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Roots of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792-21D3-4777-9FC4-A193D8E313EE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Assignment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orksheet 21.1-21.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ad Sections 1 and 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e prepared for qui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23A-F671-444E-BA52-F91F9D2910A1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Bellwork             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380988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age 51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#1, 2, 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age 52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#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C79-8934-48CC-B70E-8795122FA3E7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20:56:12Z</dcterms:created>
  <dc:creator>M. C. McLaughlin</dc:creator>
  <dc:description/>
  <dc:language>en-US</dc:language>
  <cp:lastModifiedBy>mhimmelhaver</cp:lastModifiedBy>
  <dcterms:modified xsi:type="dcterms:W3CDTF">2009-01-20T13:28:32Z</dcterms:modified>
  <cp:revision>20</cp:revision>
  <dc:subject/>
  <dc:title>CHAPTER 21: The French Revolution and Napoléon</dc:title>
</cp:coreProperties>
</file>